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DA8-5B54-4D69-8774-42F83A4E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62C-F280-410E-B7EA-6C3786FC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9DB-8013-401D-8A3C-A43093B4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12A-1E74-4CA9-AD50-C4D22CB3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9E1-68F3-49DC-BE7A-FFE62D9F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AF1-599A-49E4-89EB-38FB8788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A81-C742-4966-B7ED-845F47AE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DF7-3011-49E4-A951-5F5417C3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F3B-27FE-4986-8B73-1AFC018A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71B-4066-4812-AF33-CFC43921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5C4-A1D8-4454-927C-BEE876CE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DE7-88B0-4004-94A0-AF525A90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DEB2-146D-451E-A779-327EED75D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360" y="22035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42195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140360" y="37879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3427560"/>
            <a:ext cx="28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932360" y="13395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003480" y="313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4960" y="28954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874960" y="28954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4960" y="2895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74960" y="3398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2565360"/>
            <a:ext cx="144360" cy="144360"/>
          </a:xfrm>
          <a:prstGeom prst="ellipse">
            <a:avLst/>
          </a:prstGeom>
          <a:solidFill>
            <a:srgbClr val="eb3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628640"/>
            <a:ext cx="144360" cy="144720"/>
          </a:xfrm>
          <a:prstGeom prst="ellipse">
            <a:avLst/>
          </a:prstGeom>
          <a:solidFill>
            <a:srgbClr val="eb3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42:17Z</dcterms:created>
  <dc:creator>Carlos Torres</dc:creator>
  <dc:description/>
  <dc:language>en-US</dc:language>
  <cp:lastModifiedBy>Carlos Torres</cp:lastModifiedBy>
  <dcterms:modified xsi:type="dcterms:W3CDTF">2007-07-09T15:42:44Z</dcterms:modified>
  <cp:revision>1</cp:revision>
  <dc:subject/>
  <dc:title>Diapositiva 1</dc:title>
</cp:coreProperties>
</file>